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444CA-FE3E-41B0-B29A-FEB2DFD22F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PARIS MON AMOU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22025-8877-4D07-9317-D56B82EFD74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noasterea istoriei, obiceiurilor si traditiile unei tari ne ajuta sa ne imbogatim cunostintele pe care le putem folosi apoi in viata cotidian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801C5-982B-45D3-9080-B2999B624BA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zentarea este o incursiune in cultura si civilizatia Frantei in cadrul unui circuit turistic, cu scopul de a cunoaste si aprofunda cunostintele despre centrul si monumentele Parisulu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AA572-9FCA-4A59-A801-75B5BD8390E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rnul Eiffel a fost construit intre 1887-1889, masoara 324 m si isi schimba inaltimea de cateva ori pe an, din cauza dilatarii aliajului. Necesita 70 tone de vopsea o data la 7 an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1067F-6461-420E-AB52-1D1DDB311E8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Turnu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este una dintre principalele destinaţii turistice ale Parisului şi lumii, cu mai mult de 5,5 milioane de vizitatori anual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 fiecare ora fixa turnul se lumineaza pentru 10 minu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96B52-7716-4AC8-B46F-4F7806D11E7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vrul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este cel mai mare muzeu de istorie şi artă din Franţ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Adaposteste cele mai importante opere de arta din lu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90CA1-5810-42A2-BF50-124E86EFBDE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AF90-0A26-466B-B8E7-4B9A8E67F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7344-70AF-4C61-97BC-46DC648BC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F37C-48F5-43E0-8316-9BF565A61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7E68-817D-4067-9B22-036FDA7D2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3071C9-0A13-4E5F-8F0A-07C69B132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DB8B35-0991-422B-8440-02A67E4DE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766F38-9014-4ADD-A2AB-AE920CE06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604B6B-0EE1-421D-98DB-4192FACCE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F54FA9-296B-45E2-8168-01DDA690B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947FA7-56EB-436D-9717-23119E872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A0245A-6C51-4E6B-8FEC-6403D8C0D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84C8-3AC0-44EE-B07A-47CCE72E1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855363-4CE4-40BC-BC4A-8F31AA2D8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6EA120-8DFD-4414-9A3A-0F5A0041F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9986AA-9B94-4412-B854-E04D61493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459DD7-980A-4576-AD6E-8C9057AFD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9931CA-6993-4618-B495-8322629C0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6D3A-E25A-43E9-8CE6-8D9C46C7E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395F-5381-4E6F-8ADE-91E62E914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6DC3-096E-44FC-8852-CDA373B5C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42C1-5A5C-4EA5-B12C-130F913F0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1997-3F2F-4562-89FB-DC35F034A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C201-2D04-4584-B559-5C7533A4C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82C5-F936-4D43-B303-053F5E05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1C191-B321-40FB-907D-B7A0FAAD32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D74FF-FFFE-421A-A287-F4CE95A960A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-380880" y="0"/>
            <a:ext cx="9524880" cy="9296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09480" y="762120"/>
            <a:ext cx="381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ahoma"/>
              </a:rPr>
              <a:t>PARIS MON</a:t>
            </a: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0066"/>
                </a:solidFill>
                <a:latin typeface="Tahoma"/>
              </a:rPr>
              <a:t>AMOU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4" descr="grande-arche-paris[1]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5"/>
          <p:cNvSpPr/>
          <p:nvPr/>
        </p:nvSpPr>
        <p:spPr>
          <a:xfrm>
            <a:off x="-685800" y="533520"/>
            <a:ext cx="936936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Vladimir Script"/>
              </a:rPr>
              <a:t>LA DEFENSE  este cel mai modern cartier af Parisului. </a:t>
            </a:r>
            <a:r>
              <a:rPr b="0" lang="ro-RO" sz="2800" spc="-1" strike="noStrike">
                <a:solidFill>
                  <a:srgbClr val="ff0066"/>
                </a:solidFill>
                <a:latin typeface="Vladimir Script"/>
              </a:rPr>
              <a:t>Peste 60 de opere artistice contemporane fac din La Défense un muzeu în aer libe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4" descr="ARCHE031"/>
          <p:cNvPicPr/>
          <p:nvPr/>
        </p:nvPicPr>
        <p:blipFill>
          <a:blip r:embed="rId2"/>
          <a:stretch/>
        </p:blipFill>
        <p:spPr>
          <a:xfrm>
            <a:off x="457200" y="0"/>
            <a:ext cx="8686800" cy="739152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5"/>
          <p:cNvSpPr/>
          <p:nvPr/>
        </p:nvSpPr>
        <p:spPr>
          <a:xfrm>
            <a:off x="762120" y="457200"/>
            <a:ext cx="6095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ff0066"/>
                </a:solidFill>
                <a:latin typeface="Arial Unicode MS"/>
              </a:rPr>
              <a:t>Catedrala Notre Dame din Paris este vizitată de circa 13 milioane de persoane annual</a:t>
            </a:r>
            <a:r>
              <a:rPr b="1" i="1" lang="en-US" sz="2000" spc="-1" strike="noStrike">
                <a:solidFill>
                  <a:srgbClr val="ff0066"/>
                </a:solidFill>
                <a:latin typeface="Arial Unicode MS"/>
              </a:rPr>
              <a:t>. </a:t>
            </a:r>
            <a:r>
              <a:rPr b="1" i="1" lang="ro-RO" sz="2000" spc="-1" strike="noStrike">
                <a:solidFill>
                  <a:srgbClr val="ff0066"/>
                </a:solidFill>
                <a:latin typeface="Arial Unicode MS"/>
              </a:rPr>
              <a:t>De proporții impozante, 130 m lungime, 45 m lățime, 35 m înălțime</a:t>
            </a:r>
            <a:r>
              <a:rPr b="1" i="1" lang="en-US" sz="2000" spc="-1" strike="noStrike">
                <a:solidFill>
                  <a:srgbClr val="ff0066"/>
                </a:solidFill>
                <a:latin typeface="Arial Unicode MS"/>
              </a:rPr>
              <a:t>, </a:t>
            </a:r>
            <a:r>
              <a:rPr b="1" i="1" lang="ro-RO" sz="2000" spc="-1" strike="noStrike">
                <a:solidFill>
                  <a:srgbClr val="ff0066"/>
                </a:solidFill>
                <a:latin typeface="Arial Unicode MS"/>
              </a:rPr>
              <a:t>Notre-Dame este considerată cea mai întunecată catedrală dintre marile catedrale gotice</a:t>
            </a:r>
            <a:r>
              <a:rPr b="1" i="1" lang="en-US" sz="2000" spc="-1" strike="noStrike">
                <a:solidFill>
                  <a:srgbClr val="ff0066"/>
                </a:solidFill>
                <a:latin typeface="Arial Unicode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4" descr="eiffel-tower-lb5[1]"/>
          <p:cNvPicPr/>
          <p:nvPr/>
        </p:nvPicPr>
        <p:blipFill>
          <a:blip r:embed="rId2"/>
          <a:stretch/>
        </p:blipFill>
        <p:spPr>
          <a:xfrm>
            <a:off x="-685800" y="0"/>
            <a:ext cx="98298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-228600" y="4724280"/>
            <a:ext cx="6629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 Condensed"/>
              </a:rPr>
              <a:t>Turnul Eiffel a fost construit intre 1887-1889, </a:t>
            </a:r>
            <a:r>
              <a:rPr b="0" lang="it-IT" sz="2400" spc="-1" strike="noStrike">
                <a:solidFill>
                  <a:srgbClr val="ffffff"/>
                </a:solidFill>
                <a:latin typeface="Rockwell Condensed"/>
              </a:rPr>
              <a:t>in onoarea centenarului Revolutiei franceze, </a:t>
            </a:r>
            <a:r>
              <a:rPr b="0" lang="en-US" sz="2400" spc="-1" strike="noStrike">
                <a:solidFill>
                  <a:srgbClr val="ffffff"/>
                </a:solidFill>
                <a:latin typeface="Rockwell Condensed"/>
              </a:rPr>
              <a:t>masoara 324 m si isi schimba inaltimea de cateva ori pe an, din cauza dilatarii aliajului. Necesita 70 tone de vopsea o data la 7 an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4" descr="eiffel-tower-night-xds[1]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5"/>
          <p:cNvSpPr/>
          <p:nvPr/>
        </p:nvSpPr>
        <p:spPr>
          <a:xfrm>
            <a:off x="228600" y="228600"/>
            <a:ext cx="622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ffffff"/>
                </a:solidFill>
                <a:latin typeface="Tahoma"/>
              </a:rPr>
              <a:t>Turnul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vi-VN" sz="1800" spc="-1" strike="noStrike">
                <a:solidFill>
                  <a:srgbClr val="ffffff"/>
                </a:solidFill>
                <a:latin typeface="Tahoma"/>
              </a:rPr>
              <a:t>este una dintre principalele destinaţii turistice ale Parisului şi lumii, cu mai mult de 5,5 milioane de vizitatori anual.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a fiecare ora fixa turnul se lumineaza pentru 10 minut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4" descr="louvre-pyramid[1]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5"/>
          <p:cNvSpPr/>
          <p:nvPr/>
        </p:nvSpPr>
        <p:spPr>
          <a:xfrm>
            <a:off x="2819520" y="510552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uvrul </a:t>
            </a:r>
            <a:r>
              <a:rPr b="0" lang="vi-VN" sz="2400" spc="-1" strike="noStrike">
                <a:solidFill>
                  <a:srgbClr val="ffffff"/>
                </a:solidFill>
                <a:latin typeface="Tahoma"/>
              </a:rPr>
              <a:t>este cel mai mare muzeu de istorie şi artă din Franţ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 Adaposteste cele mai importante opere de arta din lum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4T19:34:49Z</dcterms:created>
  <dc:creator>sabin&amp;lumi</dc:creator>
  <dc:description/>
  <dc:language>en-US</dc:language>
  <cp:lastModifiedBy>elev1</cp:lastModifiedBy>
  <dcterms:modified xsi:type="dcterms:W3CDTF">2010-09-01T11:11:56Z</dcterms:modified>
  <cp:revision>18</cp:revision>
  <dc:subject/>
  <dc:title>Slide 1</dc:title>
</cp:coreProperties>
</file>